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C445-FBA7-4235-9245-2CA305F6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606F-D2BD-4E72-AC0C-FC2F970D4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1444-5351-44CD-A550-307F31E29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17A7-C95E-4621-BCC9-E0AFCB093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459A-664B-423D-8C3C-DC0888698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5F33-F7C2-47D1-982E-502E8DDFF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D574-C21C-4C8A-A056-0251D156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2488-7F56-4982-8974-02FF8507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BC73D-2411-4960-8CBE-9C908FC0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7A01-D2FB-4B4E-894A-AE8DD79FF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27FE-0BC8-4CAC-B6FB-8B9B579E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6016-BE69-4D93-8295-D2CD436F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C1C0-4ED0-4BF6-AFBE-82338AE6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EF01-5F25-46F9-8FB9-4822F3B0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7FDFF-EA04-4A1B-A5CC-2C62AC696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971F-EB74-45D3-95A5-9F3961D4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FE0F-FA21-4105-8D03-8C074088A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E046-76D6-46FA-9BE4-F325862E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F328-AB83-45A2-AA58-6ADAAA56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D870-9D43-4524-95F2-91F2A51B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D5C-36FE-4C45-8D78-AD089884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BE20-BF4F-4524-9E34-E9BB7746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20A0-8661-4405-8CD4-E7738A3A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0AC8-B9DA-482C-83F5-687332ED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485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Ribbon13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easant Grove High Sch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ring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Ribbon131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leasant Grove Hig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ring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E159-F994-4509-A397-C1DECA3FDA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0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Types of Computers &amp; </a:t>
            </a:r>
            <a:br>
              <a:rPr sz="4800"/>
            </a:br>
            <a:r>
              <a:rPr b="0" lang="en-US" sz="4800" spc="-1" strike="noStrike">
                <a:solidFill>
                  <a:srgbClr val="330033"/>
                </a:solidFill>
                <a:latin typeface="Arial"/>
              </a:rPr>
              <a:t>Computer Hardware</a:t>
            </a:r>
            <a:endParaRPr b="0" lang="en-US" sz="48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Mainfram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3314880" cy="36482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expensive computer capable of simultaneously processing data for hundreds or thousands of us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store, manage, and process large amounts of data that need to be reliable, secure, and centraliz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housed in a closet sized cabi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erve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is to “serv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uter that has the purpose of supplying its  users with data; usually through the use of a LAN (local area networ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841560" cy="3803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Handheld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called a PDA (Personal Digital Assistan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uter that fits into a pocket, runs on batteries, and is used while holding the unit in your h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used as an appointment book, address book, calculator, and notep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synchronized with a personal microcomputer as a backu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282276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omputer Hardwar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666880" y="1828800"/>
            <a:ext cx="409572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ystem unit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 that holds the power supply, storage devices, and the circuit boards (including the motherboar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86200" y="2666880"/>
            <a:ext cx="1668600" cy="3463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CPU (Central Processing Unit)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5028840"/>
            <a:ext cx="7772400" cy="108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the processing in a computer takes place, often called the brain of the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276720" y="1828800"/>
            <a:ext cx="2458800" cy="2943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Input Devices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s that gather information and transform that information it into a series of electronic signals for the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Keyboard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472392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rrangement of letters, numbers, and special function keys that act as the primary input device to the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276720" y="1752480"/>
            <a:ext cx="2898720" cy="2766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Mous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put device that allows the user to manipulate objects on the screen by moving the device along the surface of a de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743200" y="3352680"/>
            <a:ext cx="3952800" cy="2724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ound Card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4723920"/>
            <a:ext cx="7772400" cy="16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ircuit board that gives the computer the ability to accept audio input, play sound files, and produce audio output through speakers or headph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3130560" cy="2795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asic Terminology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device that accepts input, processes data, stores data, and produces output, all according to a series of stored instru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s the electronic and mechanical devices that process the data; refers to the computer as well as peripheral de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omputer program that tells the computer how to perform particular tas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or more computers and other devices that are connected, for the purpose of sharing data and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pheral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to expand the computer’s input, output and storage capab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Modem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vice that sends and receives data to and from computers over telephone l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200400" y="3371760"/>
            <a:ext cx="3352680" cy="23274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Output Devices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s that display, print, or transmit the results of processing from the computer’s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Monito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79920" y="1600200"/>
            <a:ext cx="2241360" cy="21891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43430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lay device that forms an image by converting electrical signals from the computer into points of colored light on the scree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density of the grid used to display or print text and graphics; the greater the horizontal and vertical density, the higher the resolution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ixel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smallest unit in a graphic image; computer display devices use a matrix of pixels to display text and graphic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torage Devices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to keep data when the power to the computer is turned of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ppy or zip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-Wr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876920" y="2971800"/>
            <a:ext cx="2990880" cy="3198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Printe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vice that produces text or graphical images on pap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4189320" cy="334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peakers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4572000"/>
            <a:ext cx="77724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vices that receive signals from the computer’s sound card to play music, narration, or sound eff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200400" y="1676520"/>
            <a:ext cx="2970360" cy="27273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Resource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ons, June Jamrich, and Dan Oja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puter Concep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Boston: Course Technology - Thompson Learning, 200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Basic Terminology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hatever is put into a computer system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fers to the symbols that represent facts, objects, or ide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e results of the computer storing data as bits and bytes; the words, numbers, sounds, and graphic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sts of the processing results produced by a computer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nipulation of the data in many way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ea of the computer that temporarily holds data waiting to be processed, stored, or output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rea of the computer that holds data on a permanent basis when it is not immediately needed for processing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Types of Computers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40080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Microcompute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ersonal computer; designed to meet the computer needs of an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ccess to a wide variety of computing applications, such as word processing, photo editing, e-mail, and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114800" cy="34606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Desktop Microcompute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3809880" cy="2852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icrocomputer that fits on a desk and runs on power from an electrical wall outl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PU can be housed in either a vertical or a horizontal c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separate components (keyboard, mouse, etc.) that are each plugged into the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Laptop Compute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ortable, compact computer that can run on an electrical wall outlet or a battery un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omponents (keyboard, mouse, etc.) are in one compact un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more expensive than a comparable desk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lled a Notebo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3429000" cy="31989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Workstation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erful desktop computer designed for specialized tas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tackle tasks that require a lot of processing sp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lso be an ordinary personal computer attached to a LAN (local area network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Arial"/>
              </a:rPr>
              <a:t>Supercomputer</a:t>
            </a:r>
            <a:endParaRPr b="0" lang="en-US" sz="4200" spc="-1" strike="noStrike">
              <a:solidFill>
                <a:srgbClr val="3300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puter that was the fastest in the world at the time it was constru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tackle tasks that would not be practical for other compu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ypical 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eaking cod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deling weather system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5T15:45:59Z</dcterms:created>
  <dc:creator>Michelle Guymon</dc:creator>
  <dc:description/>
  <dc:language>en-US</dc:language>
  <cp:lastModifiedBy>Larry Phelps</cp:lastModifiedBy>
  <dcterms:modified xsi:type="dcterms:W3CDTF">2004-09-07T16:53:02Z</dcterms:modified>
  <cp:revision>69</cp:revision>
  <dc:subject/>
  <dc:title>Types of Computers</dc:title>
</cp:coreProperties>
</file>